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8.gif" ContentType="image/gif"/>
  <Override PartName="/ppt/media/image3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7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0ED1-D210-45C5-8248-3AE8D4F7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B196-B88A-41CD-8C46-DE34D5B8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2F36-982C-40D1-A4F5-77D13C6A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7B9C-5F10-4FEF-A64C-3FF79492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0222-2CA6-411E-BB3B-4F3D52F9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78FE-94E3-420E-A899-D488F217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A67E-4A4B-45A4-961C-A0CDB53F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7BE8-BE63-4E48-8974-EE582C4A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8E53-1BF9-449B-87B9-1D3043F1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969D-039E-416F-B2BD-038F5008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65BA-CFED-4D15-8D48-A11D7FCD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C633-8F3B-4856-BA38-4B8CB533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0C7B-919D-4A1E-A2ED-A995D69F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AC4B-0DF5-4BDC-BEEF-4C756144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AE4A-C0FE-47E1-BBA3-960BF2E7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F341-A0CF-4B1A-AD54-FFD823AF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C4DB-3293-4843-83CF-C075F7D2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1B30-BC27-4162-9B8B-D6D5ECE2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6D06-9326-404B-BD1F-A610DD99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9A8A-7FCD-4BA5-9D65-CEC39784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B885-5759-4EFA-8D22-F44C55ED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FB2D-04A7-45D0-B7D9-43DC4691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5B88-D3C6-4E84-976D-F44991AE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4853-7E90-42A4-9CE0-23C6F62E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885A-F727-4C82-94C4-8A7D706732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F872-CECE-4769-88A4-50CF5ED9D5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The Quilt Story</a:t>
            </a:r>
            <a:br>
              <a:rPr sz="6200"/>
            </a:b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Vocabulary and Amazing Word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Grade Read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stitch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sew or fasten something with stitch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267080" y="2362320"/>
            <a:ext cx="2890800" cy="3841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hatche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small ax with a handle about a foot long, for use with one han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124080" y="3179880"/>
            <a:ext cx="403884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tchwork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eces of cloth of various colors or shapes sewed togeth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352680" y="3124080"/>
            <a:ext cx="3103560" cy="322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mazing Word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preserv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represen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valuabl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ough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frown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homeland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patien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768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768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768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768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reserv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keep protected from anything that would cause to be ruined or spoile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76720" y="3886200"/>
            <a:ext cx="2482560" cy="2876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represen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stand for or symbolize someth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8120" y="3276720"/>
            <a:ext cx="27162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aluabl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th something or importa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743200" y="2514600"/>
            <a:ext cx="3710160" cy="3846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ough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mething that is difficult to d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00400" y="2438280"/>
            <a:ext cx="298296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oncentratio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nking about one thing very carefully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581280" y="2743200"/>
            <a:ext cx="3473640" cy="366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frow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87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en you wrinkle your forehead and draw your eyebrows together, usually when you are worried, angry, or thinking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181480" y="3733920"/>
            <a:ext cx="2590920" cy="250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blanket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pretended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quil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stuffing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runk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unpacked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wrapped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stitch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hatche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patchwork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homelan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e country in which you were born and where you feel you belong.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426744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tien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o wait for something or put up with some trouble without complaining or getting upset.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038480" y="3048120"/>
            <a:ext cx="1325520" cy="3638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blanket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ft, warm covering for bed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3122640" cy="3316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retende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make-believe that something is real when it is no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666880" y="3470400"/>
            <a:ext cx="4496040" cy="3135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quil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ft covering for a be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3733920" cy="3514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stuffing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erial used to fill or pack someth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971800" y="3581280"/>
            <a:ext cx="3657600" cy="2632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runk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rge boxes for carrying cloth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819520" y="3033720"/>
            <a:ext cx="3962160" cy="3146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9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unpacke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take things out that were packed in a box, trunk, or other contain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2436840" cy="2743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9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rappe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cover with pap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37778" r="5019" b="11112"/>
          <a:stretch/>
        </p:blipFill>
        <p:spPr>
          <a:xfrm>
            <a:off x="2590920" y="2743200"/>
            <a:ext cx="3809880" cy="3129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768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768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23:06:14Z</dcterms:created>
  <dc:creator> </dc:creator>
  <dc:description/>
  <dc:language>en-US</dc:language>
  <cp:lastModifiedBy> </cp:lastModifiedBy>
  <dcterms:modified xsi:type="dcterms:W3CDTF">2008-01-15T01:30:55Z</dcterms:modified>
  <cp:revision>3</cp:revision>
  <dc:subject/>
  <dc:title>The Quilt Story Vocabulary and Amazing Words</dc:title>
</cp:coreProperties>
</file>